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A9A-5C39-48AC-8967-164B9644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C4A-C96E-4D80-818B-DDC01335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508-F661-44CF-BE53-93C0B0B2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2C5-E315-4D8A-92C4-2DFD418A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5266-6B62-4E9A-BC34-D55FF1F1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A56-3662-4439-9A39-29FECAC2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9771-3B1E-4DFC-A4E7-7BFDC954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375-41FA-47D7-AEDC-4EE215C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C78F-2F84-4153-871C-39FC1BBE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A74-15A4-42E3-A164-B901B6A4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C97-E383-4E0E-BBE4-8D4BF88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FEA-14B9-49DE-B102-F2A4FAE3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1F58-0C7C-46C0-853E-2D02EDA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FD2-7EA4-4116-9E5D-87AC4EE3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E58E-60DD-432F-B231-D573590F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B34-6FCF-4053-8E4A-D3F17C90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54B1-7F52-4C05-B4D4-D86975B8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027-8AE5-43B9-8A51-2EEDDC4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89F-6D31-4DB1-B320-3B19B79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876-0211-4A4D-A36C-9421BF28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254-309E-419B-A8B4-4D301F96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50B-0E01-46B8-94A3-DCEDC9FE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964-C596-4AB8-AD78-F846A3C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B8D-2878-4087-B11C-C930A064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0DDC-B6E1-42BB-8A84-AA4DB6AA7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F15-1A74-4767-8BDE-A6113D68C2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201-782E-4951-9711-20AEDC51359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320" y="457164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Equation Analysis Shee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Analyzing Changes in Financial Position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FD1B-83CB-4B80-838D-3DE363FAAF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4.  Equipment costing $1,950 is purchased for cas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886200"/>
            <a:ext cx="9144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7D85-CD81-4368-9DC2-080ACEB331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0" y="4403880"/>
            <a:ext cx="9144000" cy="1237320"/>
            <a:chOff x="0" y="4403880"/>
            <a:chExt cx="9144000" cy="1237320"/>
          </a:xfrm>
        </p:grpSpPr>
        <p:sp>
          <p:nvSpPr>
            <p:cNvPr id="211" name="AutoShape 6"/>
            <p:cNvSpPr/>
            <p:nvPr/>
          </p:nvSpPr>
          <p:spPr>
            <a:xfrm rot="5400000">
              <a:off x="3771360" y="261288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5400000">
              <a:off x="6806880" y="36417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rot="5400000">
              <a:off x="8343720" y="40989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0" y="49374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2,100            =                $18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" name="Text Box 11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4.  Equipment costing $1,950 is purchased for cas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93CB-AD1B-4731-827D-3916780B37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5.  A new pick-up truck is purchased at a cost of $18,000.  Pay $10,000 cash and borrow the balance from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434340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788-446C-4E10-A5E3-BB4248F27E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4800600"/>
            <a:ext cx="9144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0" y="4861080"/>
            <a:ext cx="9144000" cy="1237320"/>
            <a:chOff x="0" y="4861080"/>
            <a:chExt cx="9144000" cy="1237320"/>
          </a:xfrm>
        </p:grpSpPr>
        <p:sp>
          <p:nvSpPr>
            <p:cNvPr id="230" name="AutoShape 6"/>
            <p:cNvSpPr/>
            <p:nvPr/>
          </p:nvSpPr>
          <p:spPr>
            <a:xfrm rot="5400000">
              <a:off x="3771360" y="30704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 rot="5400000">
              <a:off x="6806880" y="40989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AutoShape 8"/>
            <p:cNvSpPr/>
            <p:nvPr/>
          </p:nvSpPr>
          <p:spPr>
            <a:xfrm rot="5400000">
              <a:off x="8343720" y="45561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0" y="53946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0,100            =                $26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4" name="Text Box 11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5.  A new pick-up truck is purchased at a cost of $18,000.  Pay $10,000 cash and borrow the balance from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A13B-6B93-4EBE-A943-9F1EE6FC41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6.  Metro Movers complete a storage service for B. Cava at a price of $1,500.  A bill is sent to B. Cav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4800600"/>
            <a:ext cx="9144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6C57-B71C-45AB-9A0E-E5DC86D7270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525780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0" y="5318280"/>
            <a:ext cx="9144000" cy="1237320"/>
            <a:chOff x="0" y="5318280"/>
            <a:chExt cx="9144000" cy="1237320"/>
          </a:xfrm>
        </p:grpSpPr>
        <p:sp>
          <p:nvSpPr>
            <p:cNvPr id="249" name="AutoShape 6"/>
            <p:cNvSpPr/>
            <p:nvPr/>
          </p:nvSpPr>
          <p:spPr>
            <a:xfrm rot="5400000">
              <a:off x="3771360" y="35276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AutoShape 7"/>
            <p:cNvSpPr/>
            <p:nvPr/>
          </p:nvSpPr>
          <p:spPr>
            <a:xfrm rot="5400000">
              <a:off x="6806880" y="45561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 rot="5400000">
              <a:off x="8343720" y="50133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Text Box 9"/>
            <p:cNvSpPr/>
            <p:nvPr/>
          </p:nvSpPr>
          <p:spPr>
            <a:xfrm>
              <a:off x="0" y="58518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1,600            =                $26,920    +    $34,6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3" name="Text Box 11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6.  Metro Movers complete a storage service for B. Cava at a price of $1,500.  A bill is sent to B. Cav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CD4-D531-45A6-9E1F-457F50DE4A1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Line 7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7.  J. Hofner, the owner, withdraws $500 for personal 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EDEE-D62E-4840-8D11-C9414A8B5D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57150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0" y="5775480"/>
            <a:ext cx="9144000" cy="1237320"/>
            <a:chOff x="0" y="5775480"/>
            <a:chExt cx="9144000" cy="1237320"/>
          </a:xfrm>
        </p:grpSpPr>
        <p:sp>
          <p:nvSpPr>
            <p:cNvPr id="268" name="AutoShape 6"/>
            <p:cNvSpPr/>
            <p:nvPr/>
          </p:nvSpPr>
          <p:spPr>
            <a:xfrm rot="5400000">
              <a:off x="3771360" y="39848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 rot="5400000">
              <a:off x="6806880" y="50133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 rot="5400000">
              <a:off x="8343720" y="54705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0" y="63090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1,100            =                $26,920    +    $34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Text Box 11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7.  J. Hofner, the owner, withdraws $500 for personal 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336-1D6A-4502-8C98-A506A79253A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8.  One of the trucks requires engine work costing $75.  The repair is paid in cash when the truck is picked u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5715000"/>
            <a:ext cx="9144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876C-4CAC-4085-AF77-D1FF6A5071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Line 14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85" name="Group 13"/>
          <p:cNvGrpSpPr/>
          <p:nvPr/>
        </p:nvGrpSpPr>
        <p:grpSpPr>
          <a:xfrm>
            <a:off x="0" y="6095880"/>
            <a:ext cx="9144000" cy="1085040"/>
            <a:chOff x="0" y="6095880"/>
            <a:chExt cx="9144000" cy="1085040"/>
          </a:xfrm>
        </p:grpSpPr>
        <p:sp>
          <p:nvSpPr>
            <p:cNvPr id="286" name="AutoShape 6"/>
            <p:cNvSpPr/>
            <p:nvPr/>
          </p:nvSpPr>
          <p:spPr>
            <a:xfrm rot="5400000">
              <a:off x="3771360" y="430524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 rot="5400000">
              <a:off x="6806880" y="53337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AutoShape 8"/>
            <p:cNvSpPr/>
            <p:nvPr/>
          </p:nvSpPr>
          <p:spPr>
            <a:xfrm rot="5400000">
              <a:off x="8343720" y="57909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0" y="647712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61,025            =                $26,920    +    $34,105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" name="Text Box 11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8.  One of the trucks requires engine work costing $75.  The repair is paid in cash when the truck is picked u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4F9-3CC7-402D-8751-40F8376DDD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s business transactions occur, there are changes in the values of assets, liabilities, and capit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lthough the Balance Sheet shows the values of these assets, liabilities, and capital on a particular date, it is not adequate to reflect changes created by individual transac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177-B020-49A2-B5FD-5E566270B3F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Update the Balance Sheet based on the balances at the end of the Equation Analysis Shee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4" name="Object 11"/>
          <p:cNvGraphicFramePr/>
          <p:nvPr/>
        </p:nvGraphicFramePr>
        <p:xfrm>
          <a:off x="609480" y="3276720"/>
          <a:ext cx="7772400" cy="35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76720"/>
                    <a:ext cx="77724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Picture 13" descr="G:\Courses\BAF3MO\BAF Lessons\Support Materials\Ch3 Eq Anal.JPG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1677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37"/>
          <p:cNvGrpSpPr/>
          <p:nvPr/>
        </p:nvGrpSpPr>
        <p:grpSpPr>
          <a:xfrm>
            <a:off x="1828800" y="2666880"/>
            <a:ext cx="1981080" cy="2057400"/>
            <a:chOff x="1828800" y="2666880"/>
            <a:chExt cx="1981080" cy="2057400"/>
          </a:xfrm>
        </p:grpSpPr>
        <p:sp>
          <p:nvSpPr>
            <p:cNvPr id="298" name="Oval 14"/>
            <p:cNvSpPr/>
            <p:nvPr/>
          </p:nvSpPr>
          <p:spPr>
            <a:xfrm>
              <a:off x="1828800" y="2666880"/>
              <a:ext cx="9907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2362320" y="2971800"/>
              <a:ext cx="1447560" cy="175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36"/>
          <p:cNvGrpSpPr/>
          <p:nvPr/>
        </p:nvGrpSpPr>
        <p:grpSpPr>
          <a:xfrm>
            <a:off x="2743200" y="2666880"/>
            <a:ext cx="1066680" cy="2438640"/>
            <a:chOff x="2743200" y="2666880"/>
            <a:chExt cx="1066680" cy="2438640"/>
          </a:xfrm>
        </p:grpSpPr>
        <p:sp>
          <p:nvSpPr>
            <p:cNvPr id="301" name="Oval 16"/>
            <p:cNvSpPr/>
            <p:nvPr/>
          </p:nvSpPr>
          <p:spPr>
            <a:xfrm>
              <a:off x="2743200" y="2666880"/>
              <a:ext cx="9907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3276720" y="2971800"/>
              <a:ext cx="53316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3" name="Group 35"/>
          <p:cNvGrpSpPr/>
          <p:nvPr/>
        </p:nvGrpSpPr>
        <p:grpSpPr>
          <a:xfrm>
            <a:off x="3505320" y="2652840"/>
            <a:ext cx="990360" cy="2757240"/>
            <a:chOff x="3505320" y="2652840"/>
            <a:chExt cx="990360" cy="2757240"/>
          </a:xfrm>
        </p:grpSpPr>
        <p:sp>
          <p:nvSpPr>
            <p:cNvPr id="304" name="Oval 18"/>
            <p:cNvSpPr/>
            <p:nvPr/>
          </p:nvSpPr>
          <p:spPr>
            <a:xfrm>
              <a:off x="3505320" y="2652840"/>
              <a:ext cx="99036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 flipH="1">
              <a:off x="3962160" y="2957400"/>
              <a:ext cx="75960" cy="245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4"/>
          <p:cNvGrpSpPr/>
          <p:nvPr/>
        </p:nvGrpSpPr>
        <p:grpSpPr>
          <a:xfrm>
            <a:off x="3962520" y="2652840"/>
            <a:ext cx="1309680" cy="2985840"/>
            <a:chOff x="3962520" y="2652840"/>
            <a:chExt cx="1309680" cy="2985840"/>
          </a:xfrm>
        </p:grpSpPr>
        <p:sp>
          <p:nvSpPr>
            <p:cNvPr id="307" name="Oval 20"/>
            <p:cNvSpPr/>
            <p:nvPr/>
          </p:nvSpPr>
          <p:spPr>
            <a:xfrm>
              <a:off x="4281480" y="2652840"/>
              <a:ext cx="9907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 flipH="1">
              <a:off x="3962520" y="2957400"/>
              <a:ext cx="852480" cy="268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9" name="Group 33"/>
          <p:cNvGrpSpPr/>
          <p:nvPr/>
        </p:nvGrpSpPr>
        <p:grpSpPr>
          <a:xfrm>
            <a:off x="4191120" y="2652840"/>
            <a:ext cx="1914480" cy="3290760"/>
            <a:chOff x="4191120" y="2652840"/>
            <a:chExt cx="1914480" cy="3290760"/>
          </a:xfrm>
        </p:grpSpPr>
        <p:sp>
          <p:nvSpPr>
            <p:cNvPr id="310" name="Oval 22"/>
            <p:cNvSpPr/>
            <p:nvPr/>
          </p:nvSpPr>
          <p:spPr>
            <a:xfrm>
              <a:off x="5114880" y="2652840"/>
              <a:ext cx="9907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3"/>
            <p:cNvSpPr/>
            <p:nvPr/>
          </p:nvSpPr>
          <p:spPr>
            <a:xfrm flipH="1">
              <a:off x="4191120" y="2957400"/>
              <a:ext cx="1457280" cy="298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2" name="Group 32"/>
          <p:cNvGrpSpPr/>
          <p:nvPr/>
        </p:nvGrpSpPr>
        <p:grpSpPr>
          <a:xfrm>
            <a:off x="6033960" y="2647800"/>
            <a:ext cx="1890720" cy="2229120"/>
            <a:chOff x="6033960" y="2647800"/>
            <a:chExt cx="1890720" cy="2229120"/>
          </a:xfrm>
        </p:grpSpPr>
        <p:sp>
          <p:nvSpPr>
            <p:cNvPr id="313" name="Oval 24"/>
            <p:cNvSpPr/>
            <p:nvPr/>
          </p:nvSpPr>
          <p:spPr>
            <a:xfrm>
              <a:off x="6033960" y="2647800"/>
              <a:ext cx="9907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>
              <a:off x="6567480" y="2952720"/>
              <a:ext cx="1357200" cy="192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5" name="Group 31"/>
          <p:cNvGrpSpPr/>
          <p:nvPr/>
        </p:nvGrpSpPr>
        <p:grpSpPr>
          <a:xfrm>
            <a:off x="7101000" y="2652840"/>
            <a:ext cx="990360" cy="2757240"/>
            <a:chOff x="7101000" y="2652840"/>
            <a:chExt cx="990360" cy="2757240"/>
          </a:xfrm>
        </p:grpSpPr>
        <p:sp>
          <p:nvSpPr>
            <p:cNvPr id="316" name="Oval 26"/>
            <p:cNvSpPr/>
            <p:nvPr/>
          </p:nvSpPr>
          <p:spPr>
            <a:xfrm>
              <a:off x="7101000" y="2652840"/>
              <a:ext cx="99036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7634160" y="2957400"/>
              <a:ext cx="214560" cy="245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30"/>
          <p:cNvGrpSpPr/>
          <p:nvPr/>
        </p:nvGrpSpPr>
        <p:grpSpPr>
          <a:xfrm>
            <a:off x="8143920" y="2652840"/>
            <a:ext cx="990720" cy="3519360"/>
            <a:chOff x="8143920" y="2652840"/>
            <a:chExt cx="990720" cy="3519360"/>
          </a:xfrm>
        </p:grpSpPr>
        <p:sp>
          <p:nvSpPr>
            <p:cNvPr id="319" name="Oval 28"/>
            <p:cNvSpPr/>
            <p:nvPr/>
          </p:nvSpPr>
          <p:spPr>
            <a:xfrm>
              <a:off x="8143920" y="2652840"/>
              <a:ext cx="99072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 flipH="1">
              <a:off x="8153280" y="2957400"/>
              <a:ext cx="524160" cy="321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7EEB-F5C6-4AB0-999E-36D71CA6BF3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 of Steps in Analyzing a Trans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dentify all items (assets and liabilities) that must be changed and make all necessary chan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efully analyze the information given for each transa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assify each item affected as an asset or liabil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cide whether each item affected is to be increased or decreas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A5B0-4224-4B27-8FFB-1D010D2878F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 of Steps in Analyzing a Trans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e if the owner</a:t>
            </a:r>
            <a:r>
              <a:rPr b="1" lang="ja-JP" sz="32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 equity has chang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member the accounting equ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85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ssets decrease and liabilities are unchanged, the equation must be balanced by a decrease in owner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 equ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ake certain that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t least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two of the individual items / accounts have chang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t is possible for several items to change, but there ca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neve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e only one chan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C263-4438-4DCC-A696-CF330D8F29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 of Steps in Analyzing a Trans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ke sure that the equation is still in balan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fundamental accounting equation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(Assets = Liabilities + Owner</a:t>
            </a:r>
            <a:r>
              <a:rPr b="1" lang="ja-JP" sz="32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 Equity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lways be in bal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1DD0-491C-4640-8DFB-CA1604B9DE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609840" y="609120"/>
            <a:ext cx="9829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ing a spreadsheet program, set up a Equation Analysis Sheet (as per below) and record the following transactions.  Calculate the new totals after each entry to make sure the equation bal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3886200"/>
            <a:ext cx="9296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ationary and supplies are purchased from Ace Supply on credit for $75.  They will be paid for within 30 day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new desk for the office is purchased for $450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. Murray, a debtor, pays her debt in ful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$100 service is performed for a customer who pays in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used truck costing $6,500 is purchased from Pine Motors.  A down payment of $500 is made.  It is agreed the balance will be paid within three month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e Supply, a creditor, is paid $75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owner, Sheila Kostiuk, withdraws $100 from the business for her own us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0" y="2362320"/>
          <a:ext cx="914400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993-A160-4145-BFC3-30EE2B3B74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05280" y="60948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 balance sheet of Triangle Real Estate of Tweed, Ontario, at the close of business on September 30, 2007, is as follow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9" name="Object 7"/>
          <p:cNvGraphicFramePr/>
          <p:nvPr/>
        </p:nvGraphicFramePr>
        <p:xfrm>
          <a:off x="228600" y="2224080"/>
          <a:ext cx="868680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24080"/>
                    <a:ext cx="868680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37FC-B2C6-49EF-9B2D-0F6999D5B9B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pare an equation analysis sheet, using a spreadsheet program, and record the figures from the balance sheet provi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alyze the transactions of October 1, listed below, and record the necessary changes on the equation analysis sheet.  After each transaction, ensure that the equation is still in bal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fter completing transaction 5, prepare a new balance she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(continued)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3809880"/>
            <a:ext cx="9296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October 1</a:t>
            </a:r>
            <a:r>
              <a:rPr b="0" lang="en-US" sz="2000" spc="-1" strike="noStrike" u="sng" baseline="30000">
                <a:solidFill>
                  <a:srgbClr val="ffffcc"/>
                </a:solidFill>
                <a:uFillTx/>
                <a:latin typeface="Arial"/>
              </a:rPr>
              <a:t>s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Transaction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iangle Real Estate receives $100 cash from N. Swartz in partial payment of the amount owed by hi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me Supply is paid $200 cash in partial payment of the debt owed to the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upplies costing $95 are purchased for cash from the Standish Compan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iangle Real Estate sells a home for A.J. Buhler.  For this service, Triangle Real Estate receives a commission of $4,700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new desk (Office Furniture) is purchased from Ideal Furniture for $950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915-1E49-43F4-B4D8-8A51DB24C07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-305280" y="76212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liance Appliance Service in Renforth, Ontario, owned by Wayne Dalli, has the following assets and liabilities at the close of business on October 20, 2007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8" name="Group 7"/>
          <p:cNvGrpSpPr/>
          <p:nvPr/>
        </p:nvGrpSpPr>
        <p:grpSpPr>
          <a:xfrm>
            <a:off x="304920" y="1905120"/>
            <a:ext cx="8458200" cy="2990160"/>
            <a:chOff x="304920" y="1905120"/>
            <a:chExt cx="8458200" cy="2990160"/>
          </a:xfrm>
        </p:grpSpPr>
        <p:sp>
          <p:nvSpPr>
            <p:cNvPr id="349" name="Text Box 5"/>
            <p:cNvSpPr/>
            <p:nvPr/>
          </p:nvSpPr>
          <p:spPr>
            <a:xfrm>
              <a:off x="304920" y="1905120"/>
              <a:ext cx="4114800" cy="29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cc"/>
                  </a:solidFill>
                  <a:uFillTx/>
                  <a:latin typeface="Arial"/>
                </a:rPr>
                <a:t>Asset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Cash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$  1,395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/R – N. Chang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    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/R – P. O</a:t>
              </a:r>
              <a:r>
                <a:rPr b="0" lang="ja-JP" sz="2400" spc="-1" strike="noStrike">
                  <a:solidFill>
                    <a:srgbClr val="ffffcc"/>
                  </a:solidFill>
                  <a:latin typeface="Arial"/>
                </a:rPr>
                <a:t>’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Neil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    527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Equipment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  8,31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Delivery Truck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19,75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Land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40,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Building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 80,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6"/>
            <p:cNvSpPr/>
            <p:nvPr/>
          </p:nvSpPr>
          <p:spPr>
            <a:xfrm>
              <a:off x="4648320" y="1905120"/>
              <a:ext cx="4114800" cy="16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cc"/>
                  </a:solidFill>
                  <a:uFillTx/>
                  <a:latin typeface="Arial"/>
                </a:rPr>
                <a:t>Liabiliti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Bank Loan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$  1,395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Mortgage Payable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 52,7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FE5E-B4ED-46F5-8B5A-761CE395FC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6320" y="9144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pare an equation analysis sheet, using a spreadsheet program, and record the above items.  Do not forget to calculate and include the capital figu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alyze the transactions of October 21, listed below, and record the necessary changes on the equation analysis sheet.  After each transaction, ensure that the equation is still in bal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fter completing transaction 5, prepare a balance she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ercise #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(continued)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3962520"/>
            <a:ext cx="9296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October 21</a:t>
            </a:r>
            <a:r>
              <a:rPr b="0" lang="en-US" sz="2000" spc="-1" strike="noStrike" u="sng" baseline="30000">
                <a:solidFill>
                  <a:srgbClr val="ffffcc"/>
                </a:solidFill>
                <a:uFillTx/>
                <a:latin typeface="Arial"/>
              </a:rPr>
              <a:t>s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Transaction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owner, in need of money for his personal use, draws $500 cash out of the busines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. O</a:t>
            </a:r>
            <a:r>
              <a:rPr b="0" lang="ja-JP" sz="2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eil pays her debt of $527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repair service is performed for a customer.  The customer pays the full amount of the bill, $90, in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new electrical tester is purchased for $410 and paid for in cas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regular monthly mortgage payment of $900 in cash is mad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D61-71EA-4D05-86D9-86B6786BFC6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83808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eview Exerci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ercise 1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(pg. 7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ercise 2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(pg. 7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380880" y="2666880"/>
            <a:ext cx="8458200" cy="1905120"/>
            <a:chOff x="380880" y="2666880"/>
            <a:chExt cx="8458200" cy="1905120"/>
          </a:xfrm>
        </p:grpSpPr>
        <p:sp>
          <p:nvSpPr>
            <p:cNvPr id="359" name="Rectangle 5"/>
            <p:cNvSpPr/>
            <p:nvPr/>
          </p:nvSpPr>
          <p:spPr>
            <a:xfrm>
              <a:off x="380880" y="2666880"/>
              <a:ext cx="8458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00"/>
                  </a:solidFill>
                  <a:latin typeface="Arial"/>
                </a:rPr>
                <a:t>Class Work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43000" y="3276720"/>
              <a:ext cx="49528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Arial"/>
                </a:rPr>
                <a:t>Review Exercise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Exercise 3 – 6 </a:t>
              </a:r>
              <a:r>
                <a:rPr b="0" i="1" lang="en-US" sz="3200" spc="-1" strike="noStrike">
                  <a:solidFill>
                    <a:srgbClr val="ffffcc"/>
                  </a:solidFill>
                  <a:latin typeface="Arial"/>
                </a:rPr>
                <a:t>(pg. 71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380880" y="4572000"/>
            <a:ext cx="8458200" cy="1981080"/>
            <a:chOff x="380880" y="4572000"/>
            <a:chExt cx="8458200" cy="1981080"/>
          </a:xfrm>
        </p:grpSpPr>
        <p:sp>
          <p:nvSpPr>
            <p:cNvPr id="362" name="Rectangle 4"/>
            <p:cNvSpPr/>
            <p:nvPr/>
          </p:nvSpPr>
          <p:spPr>
            <a:xfrm>
              <a:off x="1143000" y="5257800"/>
              <a:ext cx="4648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hallenge Exercise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Exercise 7 </a:t>
              </a:r>
              <a:r>
                <a:rPr b="0" i="1" lang="en-US" sz="3200" spc="-1" strike="noStrike">
                  <a:solidFill>
                    <a:srgbClr val="ffffcc"/>
                  </a:solidFill>
                  <a:latin typeface="Arial"/>
                </a:rPr>
                <a:t>(pg. 72)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380880" y="4572000"/>
              <a:ext cx="8458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00"/>
                  </a:solidFill>
                  <a:latin typeface="Arial"/>
                </a:rPr>
                <a:t>Assignment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F0BD-8C28-4F87-8857-4F8D364415C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73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Example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– Opening 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304920" y="1447920"/>
          <a:ext cx="8534160" cy="37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53416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8"/>
          <p:cNvSpPr/>
          <p:nvPr/>
        </p:nvSpPr>
        <p:spPr>
          <a:xfrm>
            <a:off x="380880" y="763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A2EE-F81F-4015-B90A-3B193A15EBE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8"/>
          <p:cNvSpPr/>
          <p:nvPr/>
        </p:nvSpPr>
        <p:spPr>
          <a:xfrm>
            <a:off x="0" y="2971800"/>
            <a:ext cx="9144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1.  Set up sheet with Beginning Balances as per B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7" name="Group 19"/>
          <p:cNvGrpSpPr/>
          <p:nvPr/>
        </p:nvGrpSpPr>
        <p:grpSpPr>
          <a:xfrm>
            <a:off x="0" y="3124080"/>
            <a:ext cx="9144000" cy="1237320"/>
            <a:chOff x="0" y="3124080"/>
            <a:chExt cx="9144000" cy="1237320"/>
          </a:xfrm>
        </p:grpSpPr>
        <p:sp>
          <p:nvSpPr>
            <p:cNvPr id="118" name="AutoShape 9"/>
            <p:cNvSpPr/>
            <p:nvPr/>
          </p:nvSpPr>
          <p:spPr>
            <a:xfrm rot="5400000">
              <a:off x="3771360" y="133308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 rot="5400000">
              <a:off x="6806880" y="23619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AutoShape 11"/>
            <p:cNvSpPr/>
            <p:nvPr/>
          </p:nvSpPr>
          <p:spPr>
            <a:xfrm rot="5400000">
              <a:off x="8343720" y="28191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0" y="36576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3,300            =                $20,1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0" y="2895480"/>
            <a:ext cx="9144000" cy="4127400"/>
            <a:chOff x="0" y="2895480"/>
            <a:chExt cx="9144000" cy="4127400"/>
          </a:xfrm>
        </p:grpSpPr>
        <p:graphicFrame>
          <p:nvGraphicFramePr>
            <p:cNvPr id="123" name="Object 20"/>
            <p:cNvGraphicFramePr/>
            <p:nvPr/>
          </p:nvGraphicFramePr>
          <p:xfrm>
            <a:off x="0" y="2984400"/>
            <a:ext cx="9144000" cy="403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Object 2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984400"/>
                      <a:ext cx="914400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Freeform 42"/>
            <p:cNvSpPr/>
            <p:nvPr/>
          </p:nvSpPr>
          <p:spPr>
            <a:xfrm>
              <a:off x="0" y="2895480"/>
              <a:ext cx="9144000" cy="1778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760" h="112">
                  <a:moveTo>
                    <a:pt x="0" y="56"/>
                  </a:moveTo>
                  <a:cubicBezTo>
                    <a:pt x="48" y="80"/>
                    <a:pt x="96" y="104"/>
                    <a:pt x="144" y="104"/>
                  </a:cubicBezTo>
                  <a:cubicBezTo>
                    <a:pt x="192" y="104"/>
                    <a:pt x="216" y="56"/>
                    <a:pt x="288" y="56"/>
                  </a:cubicBezTo>
                  <a:cubicBezTo>
                    <a:pt x="360" y="56"/>
                    <a:pt x="520" y="104"/>
                    <a:pt x="576" y="104"/>
                  </a:cubicBezTo>
                  <a:cubicBezTo>
                    <a:pt x="632" y="104"/>
                    <a:pt x="568" y="56"/>
                    <a:pt x="624" y="56"/>
                  </a:cubicBezTo>
                  <a:cubicBezTo>
                    <a:pt x="680" y="56"/>
                    <a:pt x="824" y="104"/>
                    <a:pt x="912" y="104"/>
                  </a:cubicBezTo>
                  <a:cubicBezTo>
                    <a:pt x="1000" y="104"/>
                    <a:pt x="1080" y="56"/>
                    <a:pt x="1152" y="56"/>
                  </a:cubicBezTo>
                  <a:cubicBezTo>
                    <a:pt x="1224" y="56"/>
                    <a:pt x="1288" y="104"/>
                    <a:pt x="1344" y="104"/>
                  </a:cubicBezTo>
                  <a:cubicBezTo>
                    <a:pt x="1400" y="104"/>
                    <a:pt x="1424" y="56"/>
                    <a:pt x="1488" y="56"/>
                  </a:cubicBezTo>
                  <a:cubicBezTo>
                    <a:pt x="1552" y="56"/>
                    <a:pt x="1664" y="104"/>
                    <a:pt x="1728" y="104"/>
                  </a:cubicBezTo>
                  <a:cubicBezTo>
                    <a:pt x="1792" y="104"/>
                    <a:pt x="1800" y="64"/>
                    <a:pt x="1872" y="56"/>
                  </a:cubicBezTo>
                  <a:cubicBezTo>
                    <a:pt x="1944" y="48"/>
                    <a:pt x="2096" y="64"/>
                    <a:pt x="2160" y="56"/>
                  </a:cubicBezTo>
                  <a:cubicBezTo>
                    <a:pt x="2224" y="48"/>
                    <a:pt x="2184" y="0"/>
                    <a:pt x="2256" y="8"/>
                  </a:cubicBezTo>
                  <a:cubicBezTo>
                    <a:pt x="2328" y="16"/>
                    <a:pt x="2512" y="104"/>
                    <a:pt x="2592" y="104"/>
                  </a:cubicBezTo>
                  <a:cubicBezTo>
                    <a:pt x="2672" y="104"/>
                    <a:pt x="2640" y="8"/>
                    <a:pt x="2736" y="8"/>
                  </a:cubicBezTo>
                  <a:cubicBezTo>
                    <a:pt x="2832" y="8"/>
                    <a:pt x="3080" y="96"/>
                    <a:pt x="3168" y="104"/>
                  </a:cubicBezTo>
                  <a:cubicBezTo>
                    <a:pt x="3256" y="112"/>
                    <a:pt x="3192" y="56"/>
                    <a:pt x="3264" y="56"/>
                  </a:cubicBezTo>
                  <a:cubicBezTo>
                    <a:pt x="3336" y="56"/>
                    <a:pt x="3536" y="104"/>
                    <a:pt x="3600" y="104"/>
                  </a:cubicBezTo>
                  <a:cubicBezTo>
                    <a:pt x="3664" y="104"/>
                    <a:pt x="3584" y="56"/>
                    <a:pt x="3648" y="56"/>
                  </a:cubicBezTo>
                  <a:cubicBezTo>
                    <a:pt x="3712" y="56"/>
                    <a:pt x="3896" y="104"/>
                    <a:pt x="3984" y="104"/>
                  </a:cubicBezTo>
                  <a:cubicBezTo>
                    <a:pt x="4072" y="104"/>
                    <a:pt x="4104" y="64"/>
                    <a:pt x="4176" y="56"/>
                  </a:cubicBezTo>
                  <a:cubicBezTo>
                    <a:pt x="4248" y="48"/>
                    <a:pt x="4352" y="56"/>
                    <a:pt x="4416" y="56"/>
                  </a:cubicBezTo>
                  <a:cubicBezTo>
                    <a:pt x="4480" y="56"/>
                    <a:pt x="4512" y="48"/>
                    <a:pt x="4560" y="56"/>
                  </a:cubicBezTo>
                  <a:cubicBezTo>
                    <a:pt x="4608" y="64"/>
                    <a:pt x="4648" y="104"/>
                    <a:pt x="4704" y="104"/>
                  </a:cubicBezTo>
                  <a:cubicBezTo>
                    <a:pt x="4760" y="104"/>
                    <a:pt x="4824" y="56"/>
                    <a:pt x="4896" y="56"/>
                  </a:cubicBezTo>
                  <a:cubicBezTo>
                    <a:pt x="4968" y="56"/>
                    <a:pt x="5080" y="104"/>
                    <a:pt x="5136" y="104"/>
                  </a:cubicBezTo>
                  <a:cubicBezTo>
                    <a:pt x="5192" y="104"/>
                    <a:pt x="5184" y="64"/>
                    <a:pt x="5232" y="56"/>
                  </a:cubicBezTo>
                  <a:cubicBezTo>
                    <a:pt x="5280" y="48"/>
                    <a:pt x="5368" y="48"/>
                    <a:pt x="5424" y="56"/>
                  </a:cubicBezTo>
                  <a:cubicBezTo>
                    <a:pt x="5480" y="64"/>
                    <a:pt x="5536" y="104"/>
                    <a:pt x="5568" y="104"/>
                  </a:cubicBezTo>
                  <a:cubicBezTo>
                    <a:pt x="5600" y="104"/>
                    <a:pt x="5584" y="64"/>
                    <a:pt x="5616" y="56"/>
                  </a:cubicBezTo>
                  <a:cubicBezTo>
                    <a:pt x="5648" y="48"/>
                    <a:pt x="5736" y="56"/>
                    <a:pt x="5760" y="56"/>
                  </a:cubicBezTo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" name="Line 21"/>
          <p:cNvSpPr/>
          <p:nvPr/>
        </p:nvSpPr>
        <p:spPr>
          <a:xfrm flipH="1" flipV="1">
            <a:off x="2437920" y="2971440"/>
            <a:ext cx="11430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4238640" y="2971800"/>
            <a:ext cx="504720" cy="2819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267080" y="2971800"/>
            <a:ext cx="114300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 flipH="1" flipV="1">
            <a:off x="7543440" y="2971800"/>
            <a:ext cx="685800" cy="2362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7"/>
          <p:cNvSpPr/>
          <p:nvPr/>
        </p:nvSpPr>
        <p:spPr>
          <a:xfrm flipH="1" flipV="1">
            <a:off x="6857640" y="2971800"/>
            <a:ext cx="167652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" name="Group 29"/>
          <p:cNvGrpSpPr/>
          <p:nvPr/>
        </p:nvGrpSpPr>
        <p:grpSpPr>
          <a:xfrm>
            <a:off x="8839080" y="2971440"/>
            <a:ext cx="152640" cy="3367440"/>
            <a:chOff x="8839080" y="2971440"/>
            <a:chExt cx="152640" cy="3367440"/>
          </a:xfrm>
        </p:grpSpPr>
        <p:sp>
          <p:nvSpPr>
            <p:cNvPr id="132" name="Line 25"/>
            <p:cNvSpPr/>
            <p:nvPr/>
          </p:nvSpPr>
          <p:spPr>
            <a:xfrm flipV="1">
              <a:off x="8991720" y="2971440"/>
              <a:ext cx="0" cy="3048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28"/>
            <p:cNvSpPr/>
            <p:nvPr/>
          </p:nvSpPr>
          <p:spPr>
            <a:xfrm flipH="1">
              <a:off x="8839080" y="5958000"/>
              <a:ext cx="152640" cy="380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4" name="Group 32"/>
          <p:cNvGrpSpPr/>
          <p:nvPr/>
        </p:nvGrpSpPr>
        <p:grpSpPr>
          <a:xfrm>
            <a:off x="3276360" y="2971800"/>
            <a:ext cx="381240" cy="2362320"/>
            <a:chOff x="3276360" y="2971800"/>
            <a:chExt cx="381240" cy="2362320"/>
          </a:xfrm>
        </p:grpSpPr>
        <p:sp>
          <p:nvSpPr>
            <p:cNvPr id="135" name="Line 22"/>
            <p:cNvSpPr/>
            <p:nvPr/>
          </p:nvSpPr>
          <p:spPr>
            <a:xfrm flipH="1" flipV="1">
              <a:off x="3276360" y="2971800"/>
              <a:ext cx="152280" cy="2362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3429000" y="5334120"/>
              <a:ext cx="2286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Group 41"/>
          <p:cNvGrpSpPr/>
          <p:nvPr/>
        </p:nvGrpSpPr>
        <p:grpSpPr>
          <a:xfrm>
            <a:off x="0" y="1752480"/>
            <a:ext cx="9144000" cy="4876920"/>
            <a:chOff x="0" y="1752480"/>
            <a:chExt cx="9144000" cy="4876920"/>
          </a:xfrm>
        </p:grpSpPr>
        <p:sp>
          <p:nvSpPr>
            <p:cNvPr id="138" name="AutoShape 33"/>
            <p:cNvSpPr/>
            <p:nvPr/>
          </p:nvSpPr>
          <p:spPr>
            <a:xfrm>
              <a:off x="1752480" y="1752480"/>
              <a:ext cx="7391520" cy="1067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AutoShape 34"/>
            <p:cNvSpPr/>
            <p:nvPr/>
          </p:nvSpPr>
          <p:spPr>
            <a:xfrm>
              <a:off x="0" y="4267080"/>
              <a:ext cx="2362320" cy="20574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AutoShape 35"/>
            <p:cNvSpPr/>
            <p:nvPr/>
          </p:nvSpPr>
          <p:spPr>
            <a:xfrm>
              <a:off x="4724280" y="4267080"/>
              <a:ext cx="2362320" cy="23623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Line 36"/>
            <p:cNvSpPr/>
            <p:nvPr/>
          </p:nvSpPr>
          <p:spPr>
            <a:xfrm flipV="1">
              <a:off x="1066680" y="2819160"/>
              <a:ext cx="2438640" cy="1447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Line 37"/>
            <p:cNvSpPr/>
            <p:nvPr/>
          </p:nvSpPr>
          <p:spPr>
            <a:xfrm flipV="1">
              <a:off x="6095880" y="2819160"/>
              <a:ext cx="762120" cy="1447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AutoShape 40"/>
            <p:cNvSpPr/>
            <p:nvPr/>
          </p:nvSpPr>
          <p:spPr>
            <a:xfrm>
              <a:off x="1371600" y="3581280"/>
              <a:ext cx="4343400" cy="23623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 up column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adings  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per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count nam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4" name="Line 31"/>
          <p:cNvSpPr/>
          <p:nvPr/>
        </p:nvSpPr>
        <p:spPr>
          <a:xfrm flipV="1">
            <a:off x="3962520" y="2971440"/>
            <a:ext cx="0" cy="2438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44"/>
          <p:cNvSpPr/>
          <p:nvPr/>
        </p:nvSpPr>
        <p:spPr>
          <a:xfrm>
            <a:off x="0" y="3062160"/>
            <a:ext cx="2514600" cy="1600200"/>
          </a:xfrm>
          <a:prstGeom prst="cloudCallout">
            <a:avLst>
              <a:gd name="adj1" fmla="val -109027"/>
              <a:gd name="adj2" fmla="val 4564"/>
            </a:avLst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balances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C8D-6EF1-48F2-9472-CA2349E595E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24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1.  Set up sheet with Beginning Balances as per B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2971800"/>
            <a:ext cx="9144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0" y="3124080"/>
            <a:ext cx="9144000" cy="1237320"/>
            <a:chOff x="0" y="3124080"/>
            <a:chExt cx="9144000" cy="1237320"/>
          </a:xfrm>
        </p:grpSpPr>
        <p:sp>
          <p:nvSpPr>
            <p:cNvPr id="154" name="AutoShape 7"/>
            <p:cNvSpPr/>
            <p:nvPr/>
          </p:nvSpPr>
          <p:spPr>
            <a:xfrm rot="5400000">
              <a:off x="3771360" y="133308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rot="5400000">
              <a:off x="6806880" y="236196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 rot="5400000">
              <a:off x="8343720" y="281916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0" y="365760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3,300            =                $20,1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Text Box 27"/>
          <p:cNvSpPr/>
          <p:nvPr/>
        </p:nvSpPr>
        <p:spPr>
          <a:xfrm>
            <a:off x="3733920" y="41148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Arial"/>
              </a:rPr>
              <a:t>A   =   L + OE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B521-5B8D-477C-A2D4-4F925E520D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2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2.  Metropolitan Movers pays $1,200 cash to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971800"/>
            <a:ext cx="9144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3491-ED39-47B4-8233-BFD900206B5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Line 11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2.  Metropolitan Movers pays $1,200 cash to Mercury Fin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429000"/>
            <a:ext cx="91440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0" y="3505320"/>
            <a:ext cx="9144000" cy="1237320"/>
            <a:chOff x="0" y="3505320"/>
            <a:chExt cx="9144000" cy="1237320"/>
          </a:xfrm>
        </p:grpSpPr>
        <p:sp>
          <p:nvSpPr>
            <p:cNvPr id="174" name="AutoShape 7"/>
            <p:cNvSpPr/>
            <p:nvPr/>
          </p:nvSpPr>
          <p:spPr>
            <a:xfrm rot="5400000">
              <a:off x="3771360" y="171432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 rot="5400000">
              <a:off x="6806880" y="274320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 rot="5400000">
              <a:off x="8343720" y="320040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0" y="403884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2,100            =                $18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9B2D-C9B1-4869-8612-106A4534F67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6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3.  K. Lincoln, who owes Metropolitan Movers $2,500, pays $1,100 in partial payment of deb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429000"/>
            <a:ext cx="91440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6EC-4F08-4813-9CDB-23FFF4C9C65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0" y="1622520"/>
          <a:ext cx="91440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2520"/>
                    <a:ext cx="91440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Line 13"/>
          <p:cNvSpPr/>
          <p:nvPr/>
        </p:nvSpPr>
        <p:spPr>
          <a:xfrm>
            <a:off x="6014880" y="1738440"/>
            <a:ext cx="0" cy="4647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quation Analysis She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886200"/>
            <a:ext cx="9144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0" y="3962520"/>
            <a:ext cx="9144000" cy="1237320"/>
            <a:chOff x="0" y="3962520"/>
            <a:chExt cx="9144000" cy="1237320"/>
          </a:xfrm>
        </p:grpSpPr>
        <p:sp>
          <p:nvSpPr>
            <p:cNvPr id="192" name="AutoShape 7"/>
            <p:cNvSpPr/>
            <p:nvPr/>
          </p:nvSpPr>
          <p:spPr>
            <a:xfrm rot="5400000">
              <a:off x="3771360" y="2171520"/>
              <a:ext cx="381240" cy="39625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AutoShape 8"/>
            <p:cNvSpPr/>
            <p:nvPr/>
          </p:nvSpPr>
          <p:spPr>
            <a:xfrm rot="5400000">
              <a:off x="6806880" y="3200400"/>
              <a:ext cx="381240" cy="19051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rot="5400000">
              <a:off x="8343720" y="3657600"/>
              <a:ext cx="381240" cy="99072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0" y="4496040"/>
              <a:ext cx="9144000" cy="703800"/>
            </a:xfrm>
            <a:prstGeom prst="rect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Accounting Equation               $52,100            =                $18,920    +    $33,180         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" name="Text Box 12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3.  K. Lincoln, who owes Metropolitan Movers $2,500, pays $1,100 in partial payment of deb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0:38:02Z</dcterms:created>
  <dc:creator>Gilroy</dc:creator>
  <dc:description/>
  <dc:language>en-US</dc:language>
  <cp:lastModifiedBy>Cameron Stott</cp:lastModifiedBy>
  <dcterms:modified xsi:type="dcterms:W3CDTF">2016-02-09T19:09:23Z</dcterms:modified>
  <cp:revision>18</cp:revision>
  <dc:subject/>
  <dc:title>Analyzing Changes in Financial Position</dc:title>
</cp:coreProperties>
</file>